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92F66-E0FD-4444-9DEE-EC23AE7CD6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895EC-1C21-400B-91F6-AEE6454BB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E35AC-89D5-468A-B772-3C71EAAAE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5BB23-5FC6-4B74-847E-A0AFEC956D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B7BFC-F728-4F7C-A06A-66397D90C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A3D46-780C-40E3-ACE1-FA70E6F6A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2BD45-446A-45B9-827A-5D8959604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5F8B0-8EE2-4920-B58C-B1DFCC32D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FAE89-6BAF-46B4-95DC-063590EEA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4E962-8A95-4DC0-B969-66D5E1855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642D6-6837-4E36-AF24-E1CB1F8D2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E9257-EC58-442B-B68C-58D27AAA5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7DA00-062A-4F43-B355-8D1046A8B59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92000" y="2276640"/>
            <a:ext cx="6048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疗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量饮水和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调整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痉止痛、抗感染、药物排石、调节尿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调节代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外冲击波碎石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xtracorporeal shock wave lithotrips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SW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开放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输尿管镜取石或碎石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皮肾镜取石或碎石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腔镜输尿管取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结石引起肾盂输尿管连接处或输尿管急性梗阻、扩张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乏有关结石的病因、治疗及预防的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血尿、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9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肾结石，接受了体外冲击波碎石术治疗。术后患者出现腰部疼痛，伴恶心、呕吐及尿频、尿急、尿痛和发热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输尿管下段呈串珠状致密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出现了何种问题？原因是什么？如何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轻或消除肾绞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促进排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调节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排石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外冲击波碎石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碎石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宣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善各项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必要的治疗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外冲击波碎石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碎石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与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饮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与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排石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开放性手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尿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盂造瘘管应妥善固定，保持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行输尿管镜取石的患者，输尿管壁可能发生水肿或排尿功能障碍，需留置双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J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尿管支架管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手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及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出尿石症的病因、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尿石症的病理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说明尿石症患者的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尿石症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饮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除危险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石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能是多因素所致，包括年龄、性别、职业、饮食、水的摄入量、地理环境、气候、代谢紊乱和遗传性疾病等流行病学因素，以及尿液改变和泌尿系统局部因素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和输尿管结石表现为疼痛，血尿；膀胱结石表现为排尿突然中断并疼痛；尿道结石表现为排尿困难、点滴状排尿伴尿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括非手术治疗和手术治疗，以非手术治疗中的体外冲击波碎石术为首选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石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非手术治疗护理包括减轻或消除肾绞痛、促进排石、饮食调节、药物治疗、观察排石效果。体外冲击波碎石术术前要做好宣教，完善各项检查，做好必要的治疗前准备；术后护理做好体位与活动、饮食饮水、并发症的观察与处理，观察排石情况。对非开放性手术患者应做好体位、饮水、观察尿液和引流管护理。对开放性手术患者应做好观察病情、保持呼吸道通畅、预防感染、切口及引流管的护理和指导活动。另外，还要做好健康教育预防结石复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石症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urolithia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又称尿路结石，是泌尿系统的常见病之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结石所在的部位可分为上尿路结石和下尿路结石。上尿路结石包括肾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enal calcul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和输尿管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ureteral calcul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下尿路结石包括膀胱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vesical calcul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和尿道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urethral calcul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临床上以上尿路结石多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路结石的形成机制尚未完全清楚，可能是多种影响因素所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流行病学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液改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泌尿系统局部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9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。突发右腰部疼痛，阵发性加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余。疼痛呈绞痛样，伴恶心、呕吐，疼痛向中下腹放射，伴尿频、尿急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6.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120 / 8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神志清楚，表情痛苦，辗转卧位。右肾区叩击痛，右中腹有压痛，无反跳痛，无明显腹肌紧张，移动性浊音阴性，肠鸣音正常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和输尿管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：肾绞痛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enal coli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典型症状为排尿突然中断并疼痛，疼痛放射至阴茎头部和远端尿道，伴排尿困难和膀胱刺激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道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典型症状为排尿困难、点滴状排尿伴尿痛，重者可发生急性尿潴留及会阴部剧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常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液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泌尿系统平片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KU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镜、输尿管镜和膀胱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、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职业、生活环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、饮水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治疗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50:14Z</dcterms:modified>
  <cp:revision>112</cp:revision>
  <dc:subject/>
  <dc:title>内科护理学</dc:title>
</cp:coreProperties>
</file>